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0DC-4564-43CE-97BE-7EF0388D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9B5F-96BE-4290-966F-42618616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6F4F-71E2-43B3-8D26-3FA9601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BC88-7EDA-45DF-A0CA-CBDC2B30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B571-17B5-40BA-BD76-B2F67CB2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9D90-ED95-41CA-9A33-0E95029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1335-5C21-4D7B-8AB0-0D43FE30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C81-1734-4739-8141-0CB8CC43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2056-FD60-4EFA-8F6C-0488688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60E5-9255-4103-8B55-E6031E8D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421-822F-418C-99B3-4103E9D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E26E-05A7-4D2D-B858-E8407AB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C8A-6969-4484-B032-BD385D5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F548-9F85-41A3-BFF0-1B168E5C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F470-A6AA-4A66-B30B-526071A1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D5ED-34E4-478B-B26F-554E373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9FEA-FFE2-4DBE-995F-52FA62AB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FD8-E86C-4D5D-9F77-FE451679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066B-F571-4640-9864-84E59160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9AC6-2C99-46C5-BB2F-A7DB808F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B75A-3955-451F-B906-0360A3D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D4C5-DFA6-402A-BF3C-C90B2D49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7883-DDCE-45E8-BA24-E250AE01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89E3-941F-4505-B4E3-6446AA2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2314-9AC4-4D00-B164-F120333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FC42-215E-4FA2-8F28-D2E4FC52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A81-66B7-4407-A897-13458318D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26C-2308-4BF2-A2C7-96F09723D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18288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EL MANAGEMEN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TENDED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ELIOR logo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99360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A96A-AFCA-4221-B323-77ACAEEFD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795760" y="5072040"/>
            <a:ext cx="63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fotosearch.com/bthumb/THK/THK264/d0003207.jpg"/>
          <p:cNvPicPr/>
          <p:nvPr/>
        </p:nvPicPr>
        <p:blipFill>
          <a:blip r:embed="rId2"/>
          <a:stretch/>
        </p:blipFill>
        <p:spPr>
          <a:xfrm>
            <a:off x="7358040" y="4214880"/>
            <a:ext cx="1714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52352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vidence must go in line with the positioning of the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uxury hotel MUST appear luxu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dget hotel however does not need to look che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vidence must make the customer perceive the hotel offers value and comfor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hree C of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ustomers’ Comfor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ompetition is a dominant factor – Hotel cannot price itself out of the market / The prices must not differ too much from other hotels of simila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fotosearch.com/bthumb/CSP/CSP355/k3555900.jpg"/>
          <p:cNvPicPr/>
          <p:nvPr/>
        </p:nvPicPr>
        <p:blipFill>
          <a:blip r:embed="rId1"/>
          <a:stretch/>
        </p:blipFill>
        <p:spPr>
          <a:xfrm>
            <a:off x="7524720" y="5467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operating costs of the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lassify into fixed costs and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-  fixed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do not change in relation of volume /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  examples: rent, salaries, depreciation,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-  variable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increase in relation to volume /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 examples: consumable stores, water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www.fotosearch.com/bthumb/CSP/CSP355/k3555900.jpg"/>
          <p:cNvPicPr/>
          <p:nvPr/>
        </p:nvPicPr>
        <p:blipFill>
          <a:blip r:embed="rId1"/>
          <a:stretch/>
        </p:blipFill>
        <p:spPr>
          <a:xfrm>
            <a:off x="7524720" y="5467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targeted profits and occupa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alculate the targeted pricing using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Fixed Cost + Targeted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ontribution per room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Where Contribution = Selling Price less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targeted profits and occupa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alculate the targeted pricing using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Fixed Cost + Targeted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ontribution per room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Where Contribution = Selling Price less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 : Cost Plus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 hotelier runs a 50 room budget hot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The average room rate is $25 per room n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Budgeted monthly costs are as follow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Depreciation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2,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ixed utilities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alaries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7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Repairs and maintenance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tationery and Printing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dvertising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3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Consumable materials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nd variable utilities $5 per room n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 Cost Plus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breakeven in room nights and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hotelier expects at least 60% occupancy rate, what should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Pric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 or Mi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ccupancy rate at each pric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collected inform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to determine which level 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 at the most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Pric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rates charged in the previou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r inflation and payrol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 Pi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s according to what other hotel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are asking for comparab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The Extended 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Service/extended marketing mix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eople refers to your customer service staff and the attitude and appearance that is reflective of your organization, or perceived by your cust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 cannot have strong corporate image without good people; good people that listen to your customers, and good people that communicate those comments, concerns, and needs to your entir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r people can determine wh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r customer will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develop PEOPLE into a competitive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cruitment and sel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choose the right people for the right job (with good attitu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product knowledge, customer service skills and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prepare employees to take on greater roles and responsibilities in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mpen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do not underpay i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alaries and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o develop PEOPLE into a competitive advan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treat employees well with dignity and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ork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provide a safe and comfortable working environment, foster teamwork and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mpower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llow employees the pow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decisions that enables th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 customers better, mak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able for thei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, mechanism and flow of activities by which services are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he 'Procedure' how the product / service will reach the end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focus on simplifying the process for your prospectiv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es can be represented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lue Chai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www.fotosearch.com/bthumb/ILW/ILW506/mardep0148s.jpg"/>
          <p:cNvPicPr/>
          <p:nvPr/>
        </p:nvPicPr>
        <p:blipFill>
          <a:blip r:embed="rId1"/>
          <a:stretch/>
        </p:blipFill>
        <p:spPr>
          <a:xfrm>
            <a:off x="5867280" y="502920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PROCESS a competitive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ke processes simple for customers to understand and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ke processes convenient for customers from their perspective (not the hotel or 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waiting 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do not let guests wait too long for the servi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fotosearch.com/bthumb/ILW/ILW506/mardep0148s.jpg"/>
          <p:cNvPicPr/>
          <p:nvPr/>
        </p:nvPicPr>
        <p:blipFill>
          <a:blip r:embed="rId1"/>
          <a:stretch/>
        </p:blipFill>
        <p:spPr>
          <a:xfrm>
            <a:off x="5867280" y="502920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52352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The elements of 'marketing mix' which custo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can actually see or experience when they use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Contribute to the perceived quality of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www.fotosearch.com/bthumb/CSP/CSP443/k4431243.jpg"/>
          <p:cNvPicPr/>
          <p:nvPr/>
        </p:nvPicPr>
        <p:blipFill>
          <a:blip r:embed="rId1"/>
          <a:stretch/>
        </p:blipFill>
        <p:spPr>
          <a:xfrm>
            <a:off x="5486400" y="410364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1523520"/>
            <a:ext cx="8458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Include the following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urniture and furnishing of the rooms and all publ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açade and appearance of hotel building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Brochures, paperwork and station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Lighting and amb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ign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Temperature and no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ppearance of staf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Web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ppearance of advertis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fotosearch.com/bthumb/CSP/CSP328/k3288266.jpg"/>
          <p:cNvPicPr/>
          <p:nvPr/>
        </p:nvPicPr>
        <p:blipFill>
          <a:blip r:embed="rId1"/>
          <a:stretch/>
        </p:blipFill>
        <p:spPr>
          <a:xfrm>
            <a:off x="6602400" y="4495680"/>
            <a:ext cx="2541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8:17:07Z</dcterms:created>
  <dc:creator>Craig Brogan</dc:creator>
  <dc:description/>
  <dc:language>en-US</dc:language>
  <cp:lastModifiedBy>robert</cp:lastModifiedBy>
  <dcterms:modified xsi:type="dcterms:W3CDTF">2011-04-13T08:40:40Z</dcterms:modified>
  <cp:revision>101</cp:revision>
  <dc:subject/>
  <dc:title>Presentation Module 2</dc:title>
</cp:coreProperties>
</file>